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4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9.jpeg" ContentType="image/jpeg"/>
  <Override PartName="/ppt/media/image11.jpeg" ContentType="image/jpeg"/>
  <Override PartName="/ppt/media/image7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53BA5-0C1C-4FE2-A39D-2113043A9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F33EA-A002-41F7-A3F4-CF5BEFFF5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81E72-EE76-4CC8-A795-E3D7A1A69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E9829-4F19-4D42-9326-9F36D065A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F11E7-88D6-427E-9067-E27871FAE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49164-C5AB-4705-A7D1-EE49FFAE5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EF8E2-291A-44C5-8925-7AC550F88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2CF8D-4AD3-487B-BF35-8AE97A84F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2CD8E-C4E1-4DA5-8827-C9702FFA9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85582-576C-48A7-A1D9-E8CD4BBE4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5A3C9-1D28-46AD-9FE9-E66BFA758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0EDBE-BBB6-42F5-8CC6-95D9B16AB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C21AA-0581-46D3-850A-C90C2854F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FBEF0-7CCD-4B04-B3E2-C11FF8FB5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FD7D3-0F81-444B-AD43-933B91EB6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985FF-86E1-4750-99C1-7A5D775A3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3B8EF-AA03-4D71-9486-4DBB22344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F1C3CC-1E0D-46E4-86BE-F2E2F0098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9CDE57-CEAB-456F-82CD-0F7ABF760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626241-E422-4896-83FE-02AF1F2A0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696B4F-E27F-499E-AF4F-5987758B6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FF2611-7EFB-4CD0-8CB4-C41F7489C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A2485-9969-407F-BDF2-3DEF8E4F9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B1A524-D80E-4AC5-A498-B1EB6311D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6FBBFA-BBF8-4121-9CF4-C31E6A449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57ED74-CD8F-4E97-B9DC-9F7EE8CCC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EE4E89-72BA-42A6-AB39-2702694C3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0F8B0B-C256-4732-8EB0-86A3DAA1F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D3C56F-F05E-43C7-99AA-B639EA8E2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035DB4-B597-4C53-8ABA-3694E50EF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D5290C-B6B0-46C4-9D47-14F207B9D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8A0843-5661-4903-BAD5-225A7B82A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A7994C-BC1C-4BE6-9B5E-2E7201B0B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A1F20-0244-44AB-8A9B-BF546F422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CED5FB-183A-44E9-80FD-9D5DD7CB6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ACCE77-50A4-4B77-9460-C5EFDD629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BDBD2A-732E-4C3E-9D54-5D9FE2655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31D134-8A4C-4C36-96EC-8FCD96DE8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FBE913-8AA8-4D3D-81D2-F2E6ECFA4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D43C56-DA2F-4486-AC19-C515B8BB5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EAC0CF-C25C-4712-9400-DE5630C8D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C9C22C-DFF0-4361-9B89-1430ED84D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C08E52-FDB4-4053-B99C-95746C9DD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E5AA7-EE93-4568-B592-164D24760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519ED-EFD1-4A85-A1BB-213440CE5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1E2AB-11EF-4AF5-8FEE-DBBE8D490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3F878-25F2-4BF1-888D-3A77664D3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5ED26-367B-4B28-90A6-CD57A9558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PH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E371B-1512-47C0-ACAA-E0A7092E279D}" type="slidenum">
              <a:rPr b="0" lang="en-PH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PH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8C2AB-EA73-4CDB-B5D8-56452E28FEA3}" type="slidenum">
              <a:rPr b="0" lang="en-PH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PH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7765C-29D8-41A7-A853-2C6F62C1F651}" type="slidenum">
              <a:rPr b="0" lang="en-PH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PH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A08C7-9288-4411-9E9E-20AC4D72F9D5}" type="slidenum">
              <a:rPr b="0" lang="en-PH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WordArt 4"/>
          <p:cNvSpPr txBox="1"/>
          <p:nvPr/>
        </p:nvSpPr>
        <p:spPr>
          <a:xfrm>
            <a:off x="990720" y="1143000"/>
            <a:ext cx="731520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9dd9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Rounded MT Bold"/>
              </a:rPr>
              <a:t>Guidelines in the 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9dd9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Rounded MT Bold"/>
              <a:ea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9dd9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Rounded MT Bold"/>
              </a:rPr>
              <a:t>Selection of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9dd9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Rounded MT Bold"/>
              <a:ea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9dd9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Rounded MT Bold"/>
              </a:rPr>
              <a:t> </a:t>
            </a: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9dd9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Rounded MT Bold"/>
              </a:rPr>
              <a:t>Instructional Materials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9dd9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Rounded MT Bold"/>
              <a:ea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9ecf7"/>
                </a:solidFill>
                <a:latin typeface="Copperplate Gothic Bold"/>
              </a:rPr>
              <a:t>THANK YOU!</a:t>
            </a:r>
            <a:endParaRPr b="0" lang="en-US" sz="9600" spc="-1" strike="noStrike">
              <a:solidFill>
                <a:srgbClr val="dbf5f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Title 1" descr=""/>
          <p:cNvPicPr/>
          <p:nvPr/>
        </p:nvPicPr>
        <p:blipFill>
          <a:blip r:embed="rId1"/>
          <a:stretch/>
        </p:blipFill>
        <p:spPr>
          <a:xfrm>
            <a:off x="334800" y="1158840"/>
            <a:ext cx="8285400" cy="33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 u="sng">
                <a:solidFill>
                  <a:srgbClr val="000000"/>
                </a:solidFill>
                <a:uFillTx/>
                <a:latin typeface="Copperplate Gothic Bold"/>
              </a:rPr>
              <a:t>Determine the needs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3520" y="2209320"/>
            <a:ext cx="403848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3600" spc="-1" strike="noStrike">
                <a:solidFill>
                  <a:srgbClr val="000000"/>
                </a:solidFill>
                <a:latin typeface="Arial Rounded MT Bold"/>
              </a:rPr>
              <a:t>trying to accomplish.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3600" spc="-1" strike="noStrike">
                <a:solidFill>
                  <a:srgbClr val="000000"/>
                </a:solidFill>
                <a:latin typeface="Arial Rounded MT Bold"/>
              </a:rPr>
              <a:t>specific instructional media address.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8" name="Picture 8" descr="8C1185C92DAD43EBB892E93DEC9157D3"/>
          <p:cNvPicPr/>
          <p:nvPr/>
        </p:nvPicPr>
        <p:blipFill>
          <a:blip r:embed="rId1"/>
          <a:stretch/>
        </p:blipFill>
        <p:spPr>
          <a:xfrm>
            <a:off x="4724280" y="2209680"/>
            <a:ext cx="396252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380520" y="1294920"/>
            <a:ext cx="403884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3600" spc="-1" strike="noStrike">
                <a:solidFill>
                  <a:srgbClr val="000000"/>
                </a:solidFill>
                <a:latin typeface="Arial Rounded MT Bold"/>
              </a:rPr>
              <a:t>School library or media centre.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3600" spc="-1" strike="noStrike">
                <a:solidFill>
                  <a:srgbClr val="000000"/>
                </a:solidFill>
                <a:latin typeface="Arial Rounded MT Bold"/>
              </a:rPr>
              <a:t>Commercial producer and distributors of instructional media that can be bought.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648320" y="1934640"/>
            <a:ext cx="403848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1" name="Picture 9" descr="Huge-Library-of-clipart"/>
          <p:cNvPicPr/>
          <p:nvPr/>
        </p:nvPicPr>
        <p:blipFill>
          <a:blip r:embed="rId1"/>
          <a:stretch/>
        </p:blipFill>
        <p:spPr>
          <a:xfrm>
            <a:off x="4724280" y="1981080"/>
            <a:ext cx="3886200" cy="4267440"/>
          </a:xfrm>
          <a:prstGeom prst="rect">
            <a:avLst/>
          </a:prstGeom>
          <a:ln w="0">
            <a:noFill/>
          </a:ln>
        </p:spPr>
      </p:pic>
      <p:sp>
        <p:nvSpPr>
          <p:cNvPr id="202" name="PlaceHolder 2"/>
          <p:cNvSpPr>
            <a:spLocks noGrp="1"/>
          </p:cNvSpPr>
          <p:nvPr>
            <p:ph type="title"/>
          </p:nvPr>
        </p:nvSpPr>
        <p:spPr>
          <a:xfrm>
            <a:off x="533520" y="3808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Copperplate Gothic Bold"/>
              </a:rPr>
              <a:t>Check variety of sources</a:t>
            </a:r>
            <a:endParaRPr b="0" lang="en-US" sz="4400" spc="-1" strike="noStrike">
              <a:solidFill>
                <a:srgbClr val="dbf5f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4648320" y="1934640"/>
            <a:ext cx="4038480" cy="4389480"/>
          </a:xfrm>
          <a:prstGeom prst="rect">
            <a:avLst/>
          </a:prstGeom>
          <a:ln w="0">
            <a:noFill/>
          </a:ln>
        </p:spPr>
      </p:pic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457200" y="2209320"/>
            <a:ext cx="4038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4400" spc="-1" strike="noStrike">
                <a:solidFill>
                  <a:srgbClr val="000000"/>
                </a:solidFill>
                <a:latin typeface="Arial Rounded MT Bold"/>
              </a:rPr>
              <a:t>Preview all materials before using them.</a:t>
            </a: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opperplate Gothic Bold"/>
              </a:rPr>
              <a:t>Obtain and preview the materials</a:t>
            </a:r>
            <a:endParaRPr b="0" lang="en-US" sz="32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206" name="Picture 17" descr="0511-0902-0801-4559_Woman_Thinking_in_a_Library_clipart_image"/>
          <p:cNvPicPr/>
          <p:nvPr/>
        </p:nvPicPr>
        <p:blipFill>
          <a:blip r:embed="rId2"/>
          <a:stretch/>
        </p:blipFill>
        <p:spPr>
          <a:xfrm>
            <a:off x="4648320" y="1905120"/>
            <a:ext cx="388620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456840" y="1934640"/>
            <a:ext cx="441972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4800" spc="-1" strike="noStrike">
                <a:solidFill>
                  <a:srgbClr val="000000"/>
                </a:solidFill>
                <a:latin typeface="Arial Rounded MT Bold"/>
              </a:rPr>
              <a:t>Effectiveness of materials to help the students.</a:t>
            </a:r>
            <a:endParaRPr b="0" lang="en-US" sz="4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4648320" y="1934640"/>
            <a:ext cx="4038480" cy="4389480"/>
          </a:xfrm>
          <a:prstGeom prst="rect">
            <a:avLst/>
          </a:prstGeom>
          <a:ln w="0">
            <a:noFill/>
          </a:ln>
        </p:spPr>
      </p:pic>
      <p:sp>
        <p:nvSpPr>
          <p:cNvPr id="209" name="PlaceHolder 2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Copperplate Gothic Bold"/>
              </a:rPr>
              <a:t>Try the materials out with students</a:t>
            </a:r>
            <a:endParaRPr b="0" lang="en-US" sz="40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210" name="Picture 11" descr="teacher-students"/>
          <p:cNvPicPr/>
          <p:nvPr/>
        </p:nvPicPr>
        <p:blipFill>
          <a:blip r:embed="rId2"/>
          <a:stretch/>
        </p:blipFill>
        <p:spPr>
          <a:xfrm>
            <a:off x="4952880" y="1905120"/>
            <a:ext cx="403092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457200" y="1934640"/>
            <a:ext cx="4038480" cy="438948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rmAutofit/>
          </a:bodyPr>
          <a:p>
            <a:pPr marL="272880" indent="-272880">
              <a:lnSpc>
                <a:spcPct val="100000"/>
              </a:lnSpc>
              <a:spcBef>
                <a:spcPts val="1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5400" spc="-1" strike="noStrike">
                <a:solidFill>
                  <a:srgbClr val="000000"/>
                </a:solidFill>
                <a:latin typeface="Arial Rounded MT Bold"/>
              </a:rPr>
              <a:t>More than one set of applicable materials.</a:t>
            </a:r>
            <a:endParaRPr b="0" lang="en-US" sz="5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4648320" y="1934640"/>
            <a:ext cx="4038480" cy="4389480"/>
          </a:xfrm>
          <a:prstGeom prst="rect">
            <a:avLst/>
          </a:prstGeom>
          <a:ln w="0">
            <a:noFill/>
          </a:ln>
        </p:spPr>
      </p:pic>
      <p:sp>
        <p:nvSpPr>
          <p:cNvPr id="213" name="PlaceHolder 2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000000"/>
                </a:solidFill>
                <a:uFillTx/>
                <a:latin typeface="Copperplate Gothic Bold"/>
              </a:rPr>
              <a:t>Compare any competing materials</a:t>
            </a:r>
            <a:endParaRPr b="0" lang="en-US" sz="54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214" name="Picture 9" descr="0041-0701-2312-2708"/>
          <p:cNvPicPr/>
          <p:nvPr/>
        </p:nvPicPr>
        <p:blipFill>
          <a:blip r:embed="rId2"/>
          <a:stretch/>
        </p:blipFill>
        <p:spPr>
          <a:xfrm>
            <a:off x="4648320" y="1981080"/>
            <a:ext cx="403848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457200" y="1934640"/>
            <a:ext cx="4038480" cy="438948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rmAutofit/>
          </a:bodyPr>
          <a:p>
            <a:pPr marL="272880" indent="-272880">
              <a:lnSpc>
                <a:spcPct val="100000"/>
              </a:lnSpc>
              <a:spcBef>
                <a:spcPts val="11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4800" spc="-1" strike="noStrike">
                <a:solidFill>
                  <a:srgbClr val="000000"/>
                </a:solidFill>
                <a:latin typeface="Arial Rounded MT Bold"/>
              </a:rPr>
              <a:t>Select the best instructional materials.</a:t>
            </a:r>
            <a:endParaRPr b="0" lang="en-US" sz="4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000000"/>
                </a:solidFill>
                <a:uFillTx/>
                <a:latin typeface="Copperplate Gothic Bold"/>
              </a:rPr>
              <a:t>Make your selection</a:t>
            </a:r>
            <a:endParaRPr b="0" lang="en-US" sz="54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217" name="Picture 9" descr="teacher_clipart_1"/>
          <p:cNvPicPr/>
          <p:nvPr/>
        </p:nvPicPr>
        <p:blipFill>
          <a:blip r:embed="rId1"/>
          <a:stretch/>
        </p:blipFill>
        <p:spPr>
          <a:xfrm>
            <a:off x="5181480" y="1981080"/>
            <a:ext cx="327672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457200" y="1934640"/>
            <a:ext cx="4038480" cy="438948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rmAutofit/>
          </a:bodyPr>
          <a:p>
            <a:pPr marL="272880" indent="-272880">
              <a:lnSpc>
                <a:spcPct val="100000"/>
              </a:lnSpc>
              <a:spcBef>
                <a:spcPts val="11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4500" spc="-1" strike="noStrike">
                <a:solidFill>
                  <a:srgbClr val="000000"/>
                </a:solidFill>
                <a:latin typeface="Arial Rounded MT Bold"/>
              </a:rPr>
              <a:t>You can determine how effective the materials could be in other lesson.</a:t>
            </a:r>
            <a:endParaRPr b="0" lang="en-US" sz="45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title"/>
          </p:nvPr>
        </p:nvSpPr>
        <p:spPr>
          <a:xfrm>
            <a:off x="457200" y="7045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000000"/>
                </a:solidFill>
                <a:uFillTx/>
                <a:latin typeface="Copperplate Gothic Bold"/>
              </a:rPr>
              <a:t>Keep accurate records</a:t>
            </a:r>
            <a:endParaRPr b="0" lang="en-US" sz="54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220" name="Picture 9" descr="0511-0809-0704-1623_Frazzled_File_Clerk_Clip_Art_clipart_image"/>
          <p:cNvPicPr/>
          <p:nvPr/>
        </p:nvPicPr>
        <p:blipFill>
          <a:blip r:embed="rId1"/>
          <a:stretch/>
        </p:blipFill>
        <p:spPr>
          <a:xfrm>
            <a:off x="5105520" y="1828800"/>
            <a:ext cx="35812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References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85345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5360" indent="-22536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Corpuz, Brend B. and Lucido, Paz I (2008)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Educational Technology. Quezon city: Lorimar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Publishing, Inc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25360" indent="-22536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Garo, Candeleria D. (2004) Educational Technology.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Mandaluyong City National Book Store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25360" indent="-22536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Lucido, Paz I. and Borabo (1997) Educational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Technology. Quezon City: Katha Publishing Co.,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Inc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25360" indent="-22536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Newby, Timothy J., Stepieh, Donald A., Lehman,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James D. and Russel James D. (2000)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Intructional Technology for Teaching and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Learning. New Jersey :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Prentice-Hall, Inc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4T13:28:36Z</dcterms:created>
  <dc:creator>A S P I R E</dc:creator>
  <dc:description/>
  <dc:language>en-US</dc:language>
  <cp:lastModifiedBy>msu-iit</cp:lastModifiedBy>
  <dcterms:modified xsi:type="dcterms:W3CDTF">2011-06-28T03:09:42Z</dcterms:modified>
  <cp:revision>7</cp:revision>
  <dc:subject/>
  <dc:title>Slide 1</dc:title>
</cp:coreProperties>
</file>